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8413-0FDB-49CA-B841-992EAF638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5C20-2F8C-46C7-804C-AB392754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9553D-A8E0-4AD4-8CCF-B4415C8F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B1AA8-4F20-436F-8813-FE255675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741EF-A39B-4D46-9990-6DD9C91D1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97BE6-7386-4A49-A0FC-94F4AD18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FEC356-6CB4-4674-A982-03387C2E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E5EA2-EA0C-4F74-B33D-F04E7A20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402C9-EC48-430B-8E0C-72ACF783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AC324-AB85-4FE0-9806-711F0A692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63868-A558-4424-A330-CEFE9EF7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6EAA5-CA3A-410D-8376-C87553D0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1AF-702A-4E4D-BE7A-DE820562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E562B0-534A-4E8D-83A5-880BCA67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422F9-4117-4311-BC27-1D5A1CD6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2D830-C51E-46D3-B70D-A9E61FEC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D7E43-313E-4ED4-AA38-265310AB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FBC5B-99D3-42DA-955C-3F1F6E43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EBD77-B4CC-4617-B182-6FB416E6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C1EB7-2790-4FA1-859D-D6818927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85A976-086A-4815-A479-E51B0F7D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F9D65-2D8B-4EEA-89B1-93B572A1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DB03B-15E9-4761-BBA3-D68995FD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FF5D-5D82-4123-A809-7499DAC6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2E6EE-D501-40E7-B0E4-5EA2E543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946BE9-9934-4B39-B4CB-A5A7115F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49FB4-E7CE-48E8-A5C7-A7F67A60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18A42F-FADB-425B-AFA2-AA0BEB06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81DF6-209A-423B-B612-C9AE937E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28D8EE-6C7A-4900-9C2F-EC65326A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92F4D-9C81-4FAF-AED8-C28DBB87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08FB0-37A8-4248-8F92-1C3EDE8C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0634E-3DA5-4446-86E7-D783FDCD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12907-D697-4FD2-A234-55522A65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4146-C7DE-4588-B9EC-B5A46B17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9E6C2-2704-41EA-A611-677CB944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D42AE-07FB-4034-83F1-4BFC40E9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E10AE4-AD27-45A4-BA00-06C465D4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73733-F6AE-4714-A6F9-2EABE4BC6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58B01-A10F-4335-BEF3-060DB146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86E2E5-C234-41C6-93B6-9F51AE28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074AE7-69D1-4CA8-8293-09BAD3FB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4B69F-0CF5-47E4-8EFF-83A30633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F1FC8-5437-421B-8940-AAAEBBD5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5BAEC1-1E8A-4C19-9DC7-6BADDC47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B167B-EEC6-4EC3-A453-A6AE7EA1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DB046-19D4-4C7B-83C1-0BE4792F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6190EF-6B7C-41B7-B928-B2C3FBDD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E73019-5AFB-4989-9DDD-F367BC4C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E28F29-1705-43BA-8AEF-26AECFE6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0E65B-C906-4400-8986-839F51D16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F9C4E0-E0A2-4F61-8EE3-1E8E58C9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765AC-2A01-48D3-82EE-FBA3CAED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BCDBF6-AC7A-46FE-9297-FC0CA694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DEC524-4867-49E9-9FD1-DB62A2D4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2300CE-6A8A-49A2-A7AB-02966BA1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5E1F-584B-4196-96F0-D25CFFEA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CBEA64-9FCE-4648-BDDE-5A2A4A38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7F634-C0F5-421F-AB16-04CF7490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0F33B2-FA69-4633-81FC-35129A0B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F1D719-02C7-41BF-BBAB-E298ADBB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74BA5-9913-4863-8A44-421CEAA7F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B7B9A0-A49C-4401-B7E7-E0C7E3970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948B1-AA65-4234-A256-D4A25058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7E7763-138C-4907-AA85-2983E2E7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6D3462-9F9E-4C7F-ACDA-28616E80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AFD502-E96C-4D67-A687-8BBD0A33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0B87-A478-4762-8026-34272093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E3F94F-ACFF-4B49-AD8C-095F35D12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2D91DB-3D57-4E76-A26E-F56DBDAFB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1BBD16-D2EB-48B2-9416-71B51D27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0D756B-FD41-4F55-B213-16F29B86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556F86-8964-4B98-8291-63D7B824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909E47-9C2F-499F-8BB6-7910CB16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FEF202-ACA0-4189-956E-88ED4C12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7A4A5-954B-437D-9301-0FBC53427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19F8F4-2F16-4946-A5F2-4E94884BB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BE8269-DDD6-4F4E-934D-FFD0F4A2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4E0D-C39D-4BE6-BC19-B85A35D8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571BD9-94D1-41AB-86E1-F253AB1D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D1F05B-FE1F-4953-9CD1-ED03E387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9661B8-D268-4213-BF5D-8381BC43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726346-6E31-4E4C-BC97-4678F6D1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EDFCD1-D768-4429-A89F-D479581B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DE2B1E-B05B-4E11-B6B1-90CA580D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6540B5-2B98-47ED-BC40-61595E85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CF4CAC-D700-45C6-83E5-D203399D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793562-0076-4287-A0AF-2B7C87FA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BB4541-B844-4EC1-BA92-371B034E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E94E-A90C-47BF-977B-CC95137A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F18813-DF3D-46AF-9BB6-6C4D01E5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E7A19A-B6A4-42FC-B3E9-89F861E2B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078F59-97C5-40EB-9233-F11449DB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62FBF0-928A-49FC-9E10-4C33747A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7FABE9-A92A-48E6-A27B-25ED71FF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F339FD-8710-4002-A984-B1E21057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722BB1-AC78-40B7-BA97-D804CB7B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34CE6E-148C-4EFE-A704-0F77FEAC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2DE234-8A9C-4163-BE51-CBC11100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E8E63F-69B1-44C6-A79E-27A3891B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555B-AC52-4D8E-B502-A3B1DA1F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4E7632-309A-4FFC-9B0A-6B63CC4F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B22F45-ECAE-455C-AAE5-E2E0C18C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99F7BBC-9101-4718-8424-0EEFD1CC3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D7E1E8-1FFC-4999-9658-0AF94E49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51BDE1-E25E-476C-A96B-B30B82DC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00F220-23A9-4C07-B4B9-99523A75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F8AF91-BF95-470F-93F3-9859F6138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43AEE1-CE60-49C0-A4E2-459395A1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331CDE-0F8C-4EE7-BD30-37678666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1E2CB3-866F-49D0-9BDF-89875652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F57-D53C-4382-89C1-B9DA9266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6D130-179E-4036-A44A-D0DEF632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BAEF3A-F9AC-4E01-B6B6-B5764732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546834-5E31-4EF1-95A0-B8E09CE87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C5A442-1F29-4A08-B25B-8284C36C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9586BF-2A22-4FF3-B229-75C79CD0C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AF9E9C-3A26-4159-B0A8-9FA3E30A1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9FD5D1-BB64-41BD-8AAF-A19B0DCB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078147-8110-4D1E-8801-6FAC3890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BB54C4-4472-4CEB-874B-F69BECE3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6A8C60-139C-48FF-8444-7ECDE40B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8B607E-074E-4AFA-9BE3-049B519D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A8414-6B32-474B-BFCE-9B314B9C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DA999F-0370-48D8-A284-8612B454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C68870-8BED-4039-81E5-2009520A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FB3083-6CBB-422B-A83D-40EA1155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E70124-0BC0-4219-AC8C-FEF59E64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B22C9F-247B-4738-AACD-64C73CA9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F53558-DE30-41F1-BE4C-8A8F785C7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2E9E2C-6C92-4055-8FE0-D711C33A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D894A2-7D99-4B6A-9AF2-AF85A989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6A1068-FD02-44CB-BB56-FD860704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619A58-587F-43D6-BC26-05787C77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84594-A10F-4B9F-BF25-711335D0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8DF4CC-BE09-4429-9758-F9AF3EF6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BAC66EB-924B-4827-8073-0FF6B2AF1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411738-EBA6-419B-B985-542F994A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A64BCA-52BA-4A29-9D63-0DF8B6F3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A9CB45-CE2C-42E7-9C4F-DAEE5CE1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0440F1-4256-41B1-9EC0-CBA69CE3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C040A8-451E-45C9-A927-60BB29AE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31B01E-8171-447A-9605-2E2E8139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681ADE-C027-438B-9E2A-F8301A95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400BB4-57C0-453F-9455-B02870CC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D1F4B-5924-4024-8259-828B6582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E69483-A57B-4CAE-8FCD-70EED51D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F860C2-1851-4CBA-B1FD-891EE959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4C87A4-FDA1-4F41-B11D-BBDBEF2E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4914B6-2950-4055-A486-62407CF5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725A8B-5ECA-44E5-ACAF-F934E4CB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4ABF3B-27BF-498C-9DA9-7B54A340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08E4F0-C802-48FD-9ACC-1712ED90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A45CBC-339D-454E-929B-0B135A2F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33DA20-F2B2-411A-A160-C9E4212B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7A14FF-9CEB-41FD-A352-5F8F2D9C3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F600-0122-4EFD-A436-7A1F98526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B616D6-C40C-40B6-A53B-B0ACD21F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9AA5C4-07B5-4800-A969-B750F90D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257689-E0FA-4A82-B3A0-09BD1679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A7F07B-B825-4F88-A123-C3EF84F8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BC7B19-3F0C-429E-BF3C-71668F7E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EA866A-F0AC-4D68-8534-214491B2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32FAC7-6D4F-4D49-81B3-4ECC7822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E88ECF-A706-4B22-BD82-5CE7A805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08609E-6A17-4A43-AD87-2B00D107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E8BD83-8545-4E8D-BD82-C6A9A1BB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B1F65-7A9D-40EA-BF88-85AEB09DE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61EEF4-EB93-4BB8-900E-C0460810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4F65AD-289E-4D0F-9288-0D4084BF0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20B02F-C47C-481F-823D-C272B206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AD114-C355-4A7B-BA44-473165BB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8B15C-BA7F-4B1F-B76F-C0771822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8D0D0-ED2D-42E9-99D8-7A227337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9B285-59A4-4BA5-9739-3363B98C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133-B4C4-4F65-9493-5562D8BE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A7B66-2DA6-43E7-A231-D5926131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AA9C1-DF01-46B9-9498-EEB86458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A827C-5637-466B-AFC8-CBD3D71A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52CE7-5BCC-432A-8E64-839B2B1D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9AC3E-D226-43DA-9DB7-B2AE0FEE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A0E9F-FC52-4E7D-9F8E-572FFD10D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797D2-02BD-42CE-BF98-E49E0C12F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3E715D-AB22-4F88-B9FB-CCC00DE1F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671B7-6E45-4893-8403-BEA626576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A9651-45B0-4CB4-B0E0-B86D5548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5D28-3378-4A64-927E-3BF5E19F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826A0-E4B5-4160-8847-5FE18DA9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A52C3-D3AF-4E6B-9688-5B1C43C16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64CE3-16EC-4A10-89C9-5DC6BAA7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035C11-FD78-4312-AB29-F2CAF088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0794D-1369-4243-99AE-0AC19480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2E39E-F279-42A4-A1F7-107EEF21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8806E-809B-4054-BF09-D49BA07C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1B24F-0577-430F-8F1A-F83936CE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DA2E8-5A4C-4BDF-A3E6-3CA7F333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6A2F4-6BBA-483D-9F82-3CC4A354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FB24-4E29-4660-B755-E67C070A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1477A-F0DD-4A6E-920D-648515BD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FAAEF-A2AA-4C22-9791-EF4BF902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3EB53-F71E-4505-A125-400C8C4B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AC5FC-9B0F-4A27-A4E0-8DAEE8105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1A477-30FB-4BCE-A962-67D9CB358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C77DD-B97F-491F-80CB-12A53177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B9588-676F-46E9-BEFE-3DB82D9F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E76AA-DCAD-44C0-908E-817039EE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29758-2664-4E86-A209-8C4E739D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9FD40-3624-4EA6-97DE-5EC70AE7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5284-E015-4A09-8AD7-419F8C3C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31AEF-CBA4-44DD-88D3-E2BEA77E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A46F9-07FB-4BBC-8EBB-CE4A1ED0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573F1-D5B1-41C1-AC67-B7517561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BBB60-FF3D-4B3E-AE38-1ED31D1D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C5E80-4600-44D8-97B8-9AA9CD32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B4A72-492A-4995-9196-00C106F4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5466F-1A41-4CD4-8BA1-69ED38B6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BF493-602D-4DFE-86E8-3C912B018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A193E-3E8E-4098-94D4-AE29B30C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1CEC1-E9DA-4975-BADD-67E72563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AC07-455A-4270-9839-5C1A25D5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0617D-CEDA-4391-8C33-44AFBC22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4DF1E-2E62-4529-8AFB-226AD5AF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85E2F-8D44-4281-B1D8-BAC2F960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02E36-F3A8-4F6A-A1BD-267494D7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6691D-F268-4920-AA42-251F2173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055ED-5C88-4BFD-A981-B878E950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0EFC6-9846-4672-923E-BCEFDA0A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BBA6E-0F09-468A-B72D-3EEF9D46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28519-168F-4C1F-B39D-E8542F5C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4C7F7-1AE4-4ED8-8BDD-97014DDD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B0F-4999-4541-94DD-D01BF246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31E41-8B9B-4B8A-9C78-1EA8B15A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EAF22-31AA-45FF-B4CA-1A0AAD14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0983D-8C58-4AB2-8DAA-473E14B8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93718-BEF6-4550-BB27-80D48E55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8B849-D7EC-4E96-AFE5-69350B6C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6A8B6-E91A-4B62-8D61-9A4DB5EA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8F2492-0E69-405C-B74E-F81D42D85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B04C3-9C0A-4210-89C3-9B7B7804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73780-3493-4F95-8537-8B358C4A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B4645-9A17-4E58-A486-1E8E496B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850-6BEA-41EE-ABFE-2683D787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A0C7C-D1B3-41FF-B09F-DEFAE4BA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BD418-BE00-4201-BBF0-8D625890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F343C-4C26-4DFD-8483-9B4481CC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40D3B-53F4-49BC-AA78-764313571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083F6-B098-493C-AA95-D6EAA0DD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98164-CBEC-4CCE-848D-21DE67D7D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41E7E-37AF-4533-B381-22305D69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877236-E63F-42AF-AD5B-2FE4459B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27F0F3-7DDA-444A-8ED1-DA74CFD7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F6C003-EACB-44E3-B457-10A9A648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8D6B-2359-41A4-A988-BD616D2DBF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53C5-13FF-4A81-BBAD-1CB414A260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86A7-4CDD-4362-8E81-DCBE9DE4F9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0014-9475-4EBC-8BAD-158E0CA8FF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CBB9-A3EC-46F3-870C-A86214433C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57EF-2CD4-485D-8F75-16F66B617F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77C77-1DF6-45A8-80FD-37BA08C66C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EBC7-5798-4E20-8F73-027B3B00A6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836C-CAAD-4432-8C17-090063965F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CF47-A7C4-4C31-A072-64D890ACDE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9165-0770-428E-935E-BD6207A438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A070-B1DB-401D-A08B-1B5FF7DD8F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8C96-F56E-4428-A7B0-78BC099774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BB79-ADE5-4788-807E-3A00D8BD53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DE2E-711F-443D-AA8E-589C8D5ECC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5046-AF28-4CA6-80C6-9EB535C7F1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7AC4-A087-4003-A6AF-12F358EDBF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13B3-BFF8-4BC8-A82A-772A04F60E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130F0-017E-4D0B-B950-7E64F79F41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3DC8-52C5-4AD5-BF30-C2D68DAA50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6F01-8A50-4240-8843-035CD3096C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9606-9615-4713-90FE-3C2172467E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F8E3-1F5D-43D4-A7EE-E742DF04F8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2721-0F24-4418-93BE-2B49A766BA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9CA9-32BC-4519-A448-E860985AD7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7567-9EE5-42F7-98F6-4AD31F2C38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1BE4-8ED3-434E-8F41-1618BFBBB2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D81E-0079-45A4-A1D1-AB0E4917FB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AB3A-6C7F-4048-8F51-F526F2ED0E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296D-431B-4E1C-9BCD-FD8EE4D60C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F76C-6FEB-4D00-B6CF-225F38EE3C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4AC0-A9F6-4920-AD59-CE24AC980F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B6C4C-D5AE-4485-BCB1-FEA263FA34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3C3A-082F-4F51-9B7D-C0532D89EF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DB33-257B-44B8-B0FD-D554ABAC1E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4E89-564B-4474-B734-8B4233675F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D6CA-2B32-41CC-B6D9-1B6D6FBB79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F82D-442E-499A-93C8-C9B4707954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F38C-4E8F-4CA8-A357-03CB0E65D4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D3F0-FE36-4238-8230-C508D61B0B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1" descr="QQ图片20200731093942"/>
          <p:cNvPicPr/>
          <p:nvPr/>
        </p:nvPicPr>
        <p:blipFill>
          <a:blip r:embed="rId1"/>
          <a:stretch/>
        </p:blipFill>
        <p:spPr>
          <a:xfrm>
            <a:off x="169920" y="2340000"/>
            <a:ext cx="87534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图片 69633" descr=""/>
          <p:cNvPicPr/>
          <p:nvPr/>
        </p:nvPicPr>
        <p:blipFill>
          <a:blip r:embed="rId1"/>
          <a:stretch/>
        </p:blipFill>
        <p:spPr>
          <a:xfrm>
            <a:off x="281160" y="777960"/>
            <a:ext cx="8581680" cy="581976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8353440" cy="31896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3"/>
          <a:stretch/>
        </p:blipFill>
        <p:spPr>
          <a:xfrm>
            <a:off x="539640" y="2997360"/>
            <a:ext cx="8353440" cy="31896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4"/>
          <a:stretch/>
        </p:blipFill>
        <p:spPr>
          <a:xfrm>
            <a:off x="468360" y="3429000"/>
            <a:ext cx="8353440" cy="3189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5"/>
          <a:stretch/>
        </p:blipFill>
        <p:spPr>
          <a:xfrm>
            <a:off x="539640" y="3808440"/>
            <a:ext cx="8353440" cy="3189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6"/>
          <a:stretch/>
        </p:blipFill>
        <p:spPr>
          <a:xfrm>
            <a:off x="395280" y="5110200"/>
            <a:ext cx="5472000" cy="31896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7"/>
          <a:stretch/>
        </p:blipFill>
        <p:spPr>
          <a:xfrm>
            <a:off x="395280" y="5516640"/>
            <a:ext cx="5472000" cy="31896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8"/>
          <a:stretch/>
        </p:blipFill>
        <p:spPr>
          <a:xfrm>
            <a:off x="395280" y="5950080"/>
            <a:ext cx="5472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2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7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2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2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7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68609" descr=""/>
          <p:cNvPicPr/>
          <p:nvPr/>
        </p:nvPicPr>
        <p:blipFill>
          <a:blip r:embed="rId1"/>
          <a:stretch/>
        </p:blipFill>
        <p:spPr>
          <a:xfrm>
            <a:off x="281160" y="2147760"/>
            <a:ext cx="8581680" cy="256248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2"/>
          <a:stretch/>
        </p:blipFill>
        <p:spPr>
          <a:xfrm>
            <a:off x="611280" y="2987640"/>
            <a:ext cx="5976720" cy="31896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3"/>
          <a:stretch/>
        </p:blipFill>
        <p:spPr>
          <a:xfrm>
            <a:off x="539640" y="3357720"/>
            <a:ext cx="5977080" cy="3189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4"/>
          <a:stretch/>
        </p:blipFill>
        <p:spPr>
          <a:xfrm>
            <a:off x="539640" y="3808440"/>
            <a:ext cx="6120000" cy="31896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5"/>
          <a:stretch/>
        </p:blipFill>
        <p:spPr>
          <a:xfrm>
            <a:off x="539640" y="4221000"/>
            <a:ext cx="612000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9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4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9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图片 67585" descr=""/>
          <p:cNvPicPr/>
          <p:nvPr/>
        </p:nvPicPr>
        <p:blipFill>
          <a:blip r:embed="rId1"/>
          <a:stretch/>
        </p:blipFill>
        <p:spPr>
          <a:xfrm>
            <a:off x="290520" y="1533600"/>
            <a:ext cx="8562960" cy="37908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2"/>
          <a:stretch/>
        </p:blipFill>
        <p:spPr>
          <a:xfrm>
            <a:off x="539640" y="3716280"/>
            <a:ext cx="8353440" cy="3193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3"/>
          <a:stretch/>
        </p:blipFill>
        <p:spPr>
          <a:xfrm>
            <a:off x="539640" y="4086360"/>
            <a:ext cx="8353440" cy="31896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4"/>
          <a:stretch/>
        </p:blipFill>
        <p:spPr>
          <a:xfrm>
            <a:off x="539640" y="4508640"/>
            <a:ext cx="8353440" cy="31896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5"/>
          <a:stretch/>
        </p:blipFill>
        <p:spPr>
          <a:xfrm>
            <a:off x="530280" y="4951440"/>
            <a:ext cx="83534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6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1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1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114480" y="1081080"/>
            <a:ext cx="8915400" cy="4695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2411280" y="155736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4284720" y="155736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7451640" y="155736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971640" y="2060640"/>
            <a:ext cx="576000" cy="31896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3203640" y="2060640"/>
            <a:ext cx="1008000" cy="3189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7"/>
          <a:stretch/>
        </p:blipFill>
        <p:spPr>
          <a:xfrm>
            <a:off x="5508720" y="2565360"/>
            <a:ext cx="1224000" cy="3189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8"/>
          <a:stretch/>
        </p:blipFill>
        <p:spPr>
          <a:xfrm>
            <a:off x="2340000" y="3068640"/>
            <a:ext cx="576360" cy="3189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9"/>
          <a:stretch/>
        </p:blipFill>
        <p:spPr>
          <a:xfrm>
            <a:off x="5364000" y="3500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10"/>
          <a:stretch/>
        </p:blipFill>
        <p:spPr>
          <a:xfrm>
            <a:off x="6877080" y="352908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11"/>
          <a:stretch/>
        </p:blipFill>
        <p:spPr>
          <a:xfrm>
            <a:off x="6443640" y="4005360"/>
            <a:ext cx="1368360" cy="31896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12"/>
          <a:stretch/>
        </p:blipFill>
        <p:spPr>
          <a:xfrm>
            <a:off x="4500720" y="4508640"/>
            <a:ext cx="502920" cy="3189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13"/>
          <a:stretch/>
        </p:blipFill>
        <p:spPr>
          <a:xfrm>
            <a:off x="6659640" y="450864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4"/>
          <a:stretch/>
        </p:blipFill>
        <p:spPr>
          <a:xfrm>
            <a:off x="5724360" y="5013360"/>
            <a:ext cx="503280" cy="3189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15"/>
          <a:stretch/>
        </p:blipFill>
        <p:spPr>
          <a:xfrm>
            <a:off x="2843280" y="5516640"/>
            <a:ext cx="5032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59410" descr=""/>
          <p:cNvPicPr/>
          <p:nvPr/>
        </p:nvPicPr>
        <p:blipFill>
          <a:blip r:embed="rId1"/>
          <a:stretch/>
        </p:blipFill>
        <p:spPr>
          <a:xfrm>
            <a:off x="262080" y="781200"/>
            <a:ext cx="8619840" cy="56005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2771640" y="765000"/>
            <a:ext cx="720720" cy="3193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4500720" y="765000"/>
            <a:ext cx="502920" cy="3193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2340000" y="1268280"/>
            <a:ext cx="1511280" cy="3193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5292720" y="1235160"/>
            <a:ext cx="792000" cy="3189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6"/>
          <a:stretch/>
        </p:blipFill>
        <p:spPr>
          <a:xfrm>
            <a:off x="1436760" y="2444760"/>
            <a:ext cx="239760" cy="204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7"/>
          <a:stretch/>
        </p:blipFill>
        <p:spPr>
          <a:xfrm>
            <a:off x="4043520" y="2452680"/>
            <a:ext cx="239400" cy="204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8"/>
          <a:stretch/>
        </p:blipFill>
        <p:spPr>
          <a:xfrm>
            <a:off x="6588000" y="2449440"/>
            <a:ext cx="239760" cy="2048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9"/>
          <a:stretch/>
        </p:blipFill>
        <p:spPr>
          <a:xfrm>
            <a:off x="1547640" y="3025800"/>
            <a:ext cx="239760" cy="204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10"/>
          <a:stretch/>
        </p:blipFill>
        <p:spPr>
          <a:xfrm>
            <a:off x="4159080" y="3025800"/>
            <a:ext cx="239760" cy="204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11"/>
          <a:stretch/>
        </p:blipFill>
        <p:spPr>
          <a:xfrm>
            <a:off x="7183440" y="3025800"/>
            <a:ext cx="239760" cy="204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12"/>
          <a:stretch/>
        </p:blipFill>
        <p:spPr>
          <a:xfrm>
            <a:off x="3492360" y="3500280"/>
            <a:ext cx="720720" cy="3193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13"/>
          <a:stretch/>
        </p:blipFill>
        <p:spPr>
          <a:xfrm>
            <a:off x="7380360" y="3500280"/>
            <a:ext cx="720720" cy="3193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4"/>
          <a:stretch/>
        </p:blipFill>
        <p:spPr>
          <a:xfrm>
            <a:off x="1042920" y="4508640"/>
            <a:ext cx="865080" cy="3189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5"/>
          <a:stretch/>
        </p:blipFill>
        <p:spPr>
          <a:xfrm>
            <a:off x="2627280" y="4508640"/>
            <a:ext cx="865080" cy="31896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6"/>
          <a:stretch/>
        </p:blipFill>
        <p:spPr>
          <a:xfrm>
            <a:off x="4140360" y="4508640"/>
            <a:ext cx="865080" cy="3189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7"/>
          <a:stretch/>
        </p:blipFill>
        <p:spPr>
          <a:xfrm>
            <a:off x="5796000" y="4508640"/>
            <a:ext cx="865080" cy="31896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18"/>
          <a:stretch/>
        </p:blipFill>
        <p:spPr>
          <a:xfrm>
            <a:off x="3924360" y="5046840"/>
            <a:ext cx="1079280" cy="31896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19"/>
          <a:stretch/>
        </p:blipFill>
        <p:spPr>
          <a:xfrm>
            <a:off x="8172360" y="5056200"/>
            <a:ext cx="432000" cy="31896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20"/>
          <a:stretch/>
        </p:blipFill>
        <p:spPr>
          <a:xfrm>
            <a:off x="5805360" y="5589720"/>
            <a:ext cx="4320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58373" descr=""/>
          <p:cNvPicPr/>
          <p:nvPr/>
        </p:nvPicPr>
        <p:blipFill>
          <a:blip r:embed="rId1"/>
          <a:stretch/>
        </p:blipFill>
        <p:spPr>
          <a:xfrm>
            <a:off x="109440" y="1976400"/>
            <a:ext cx="8925120" cy="29052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2"/>
          <a:stretch/>
        </p:blipFill>
        <p:spPr>
          <a:xfrm>
            <a:off x="8388360" y="2492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3"/>
          <a:stretch/>
        </p:blipFill>
        <p:spPr>
          <a:xfrm>
            <a:off x="8440560" y="304020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4"/>
          <a:stretch/>
        </p:blipFill>
        <p:spPr>
          <a:xfrm>
            <a:off x="8388360" y="350028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5"/>
          <a:stretch/>
        </p:blipFill>
        <p:spPr>
          <a:xfrm>
            <a:off x="8388360" y="40575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6"/>
          <a:stretch/>
        </p:blipFill>
        <p:spPr>
          <a:xfrm>
            <a:off x="8450280" y="456264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57352" descr=""/>
          <p:cNvPicPr/>
          <p:nvPr/>
        </p:nvPicPr>
        <p:blipFill>
          <a:blip r:embed="rId1"/>
          <a:stretch/>
        </p:blipFill>
        <p:spPr>
          <a:xfrm>
            <a:off x="628560" y="743040"/>
            <a:ext cx="7886880" cy="53719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2"/>
          <a:stretch/>
        </p:blipFill>
        <p:spPr>
          <a:xfrm>
            <a:off x="5148360" y="126828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3"/>
          <a:stretch/>
        </p:blipFill>
        <p:spPr>
          <a:xfrm>
            <a:off x="6300720" y="227664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4"/>
          <a:stretch/>
        </p:blipFill>
        <p:spPr>
          <a:xfrm>
            <a:off x="2843280" y="328464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5"/>
          <a:stretch/>
        </p:blipFill>
        <p:spPr>
          <a:xfrm>
            <a:off x="4500720" y="4365720"/>
            <a:ext cx="358560" cy="3189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6"/>
          <a:stretch/>
        </p:blipFill>
        <p:spPr>
          <a:xfrm>
            <a:off x="7812000" y="530064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图片 56324" descr=""/>
          <p:cNvPicPr/>
          <p:nvPr/>
        </p:nvPicPr>
        <p:blipFill>
          <a:blip r:embed="rId1"/>
          <a:stretch/>
        </p:blipFill>
        <p:spPr>
          <a:xfrm>
            <a:off x="552600" y="1143000"/>
            <a:ext cx="8038800" cy="45720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2"/>
          <a:stretch/>
        </p:blipFill>
        <p:spPr>
          <a:xfrm>
            <a:off x="2095560" y="2124000"/>
            <a:ext cx="576360" cy="31932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3"/>
          <a:stretch/>
        </p:blipFill>
        <p:spPr>
          <a:xfrm>
            <a:off x="4067280" y="2124000"/>
            <a:ext cx="649080" cy="3193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4"/>
          <a:stretch/>
        </p:blipFill>
        <p:spPr>
          <a:xfrm>
            <a:off x="6012000" y="2089080"/>
            <a:ext cx="649080" cy="31932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5"/>
          <a:stretch/>
        </p:blipFill>
        <p:spPr>
          <a:xfrm>
            <a:off x="7956720" y="2133720"/>
            <a:ext cx="649080" cy="31896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6"/>
          <a:stretch/>
        </p:blipFill>
        <p:spPr>
          <a:xfrm>
            <a:off x="2095560" y="2637000"/>
            <a:ext cx="649080" cy="31896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7"/>
          <a:stretch/>
        </p:blipFill>
        <p:spPr>
          <a:xfrm>
            <a:off x="4067280" y="2637000"/>
            <a:ext cx="649080" cy="3189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8"/>
          <a:stretch/>
        </p:blipFill>
        <p:spPr>
          <a:xfrm>
            <a:off x="6084720" y="2637000"/>
            <a:ext cx="649440" cy="31896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9"/>
          <a:stretch/>
        </p:blipFill>
        <p:spPr>
          <a:xfrm>
            <a:off x="7788240" y="2637000"/>
            <a:ext cx="649440" cy="31896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10"/>
          <a:stretch/>
        </p:blipFill>
        <p:spPr>
          <a:xfrm>
            <a:off x="1042920" y="4149720"/>
            <a:ext cx="1513080" cy="180036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11"/>
          <a:stretch/>
        </p:blipFill>
        <p:spPr>
          <a:xfrm>
            <a:off x="1998720" y="3645000"/>
            <a:ext cx="772920" cy="31896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12"/>
          <a:stretch/>
        </p:blipFill>
        <p:spPr>
          <a:xfrm>
            <a:off x="3789360" y="4149720"/>
            <a:ext cx="1719360" cy="180036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13"/>
          <a:stretch/>
        </p:blipFill>
        <p:spPr>
          <a:xfrm>
            <a:off x="4745160" y="3645000"/>
            <a:ext cx="877680" cy="31896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14"/>
          <a:stretch/>
        </p:blipFill>
        <p:spPr>
          <a:xfrm>
            <a:off x="6531120" y="4159080"/>
            <a:ext cx="1719000" cy="180036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15"/>
          <a:stretch/>
        </p:blipFill>
        <p:spPr>
          <a:xfrm>
            <a:off x="7486560" y="3654360"/>
            <a:ext cx="878040" cy="3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图片 55300" descr=""/>
          <p:cNvPicPr/>
          <p:nvPr/>
        </p:nvPicPr>
        <p:blipFill>
          <a:blip r:embed="rId1"/>
          <a:stretch/>
        </p:blipFill>
        <p:spPr>
          <a:xfrm>
            <a:off x="662040" y="1638360"/>
            <a:ext cx="7819920" cy="35812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2"/>
          <a:stretch/>
        </p:blipFill>
        <p:spPr>
          <a:xfrm>
            <a:off x="1258920" y="2205000"/>
            <a:ext cx="1584360" cy="11527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3"/>
          <a:stretch/>
        </p:blipFill>
        <p:spPr>
          <a:xfrm>
            <a:off x="2157480" y="1638360"/>
            <a:ext cx="1406520" cy="31896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4"/>
          <a:stretch/>
        </p:blipFill>
        <p:spPr>
          <a:xfrm>
            <a:off x="3995640" y="2205000"/>
            <a:ext cx="1584360" cy="11527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5"/>
          <a:stretch/>
        </p:blipFill>
        <p:spPr>
          <a:xfrm>
            <a:off x="4894200" y="1638360"/>
            <a:ext cx="1406520" cy="31896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6"/>
          <a:stretch/>
        </p:blipFill>
        <p:spPr>
          <a:xfrm>
            <a:off x="6751800" y="2247840"/>
            <a:ext cx="1584000" cy="115272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7"/>
          <a:stretch/>
        </p:blipFill>
        <p:spPr>
          <a:xfrm>
            <a:off x="7650000" y="1681200"/>
            <a:ext cx="1025640" cy="31896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8"/>
          <a:stretch/>
        </p:blipFill>
        <p:spPr>
          <a:xfrm>
            <a:off x="3635280" y="4581360"/>
            <a:ext cx="3816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1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6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1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图片 54276" descr=""/>
          <p:cNvPicPr/>
          <p:nvPr/>
        </p:nvPicPr>
        <p:blipFill>
          <a:blip r:embed="rId1"/>
          <a:stretch/>
        </p:blipFill>
        <p:spPr>
          <a:xfrm>
            <a:off x="628560" y="2500200"/>
            <a:ext cx="7886880" cy="185760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2"/>
          <a:stretch/>
        </p:blipFill>
        <p:spPr>
          <a:xfrm>
            <a:off x="1476360" y="3357720"/>
            <a:ext cx="1511280" cy="136656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3"/>
          <a:stretch/>
        </p:blipFill>
        <p:spPr>
          <a:xfrm>
            <a:off x="4211640" y="3357720"/>
            <a:ext cx="1511280" cy="136656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4"/>
          <a:stretch/>
        </p:blipFill>
        <p:spPr>
          <a:xfrm>
            <a:off x="7380360" y="3357720"/>
            <a:ext cx="1511280" cy="13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3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8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图片 52231" descr=""/>
          <p:cNvPicPr/>
          <p:nvPr/>
        </p:nvPicPr>
        <p:blipFill>
          <a:blip r:embed="rId1"/>
          <a:stretch/>
        </p:blipFill>
        <p:spPr>
          <a:xfrm>
            <a:off x="71280" y="808200"/>
            <a:ext cx="9001440" cy="2333520"/>
          </a:xfrm>
          <a:prstGeom prst="rect">
            <a:avLst/>
          </a:prstGeom>
          <a:ln w="0">
            <a:noFill/>
          </a:ln>
        </p:spPr>
      </p:pic>
      <p:pic>
        <p:nvPicPr>
          <p:cNvPr id="1098" name="图片 52232" descr=""/>
          <p:cNvPicPr/>
          <p:nvPr/>
        </p:nvPicPr>
        <p:blipFill>
          <a:blip r:embed="rId2"/>
          <a:stretch/>
        </p:blipFill>
        <p:spPr>
          <a:xfrm>
            <a:off x="295200" y="3213000"/>
            <a:ext cx="8553600" cy="328608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3"/>
          <a:stretch/>
        </p:blipFill>
        <p:spPr>
          <a:xfrm>
            <a:off x="611280" y="1785960"/>
            <a:ext cx="7345440" cy="31896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4"/>
          <a:stretch/>
        </p:blipFill>
        <p:spPr>
          <a:xfrm>
            <a:off x="611280" y="2276640"/>
            <a:ext cx="7345440" cy="31896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5"/>
          <a:stretch/>
        </p:blipFill>
        <p:spPr>
          <a:xfrm>
            <a:off x="611280" y="2781360"/>
            <a:ext cx="7345440" cy="31896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6"/>
          <a:stretch/>
        </p:blipFill>
        <p:spPr>
          <a:xfrm>
            <a:off x="468360" y="5084640"/>
            <a:ext cx="8424720" cy="31932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7"/>
          <a:stretch/>
        </p:blipFill>
        <p:spPr>
          <a:xfrm>
            <a:off x="395280" y="5589720"/>
            <a:ext cx="8424720" cy="31896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8"/>
          <a:stretch/>
        </p:blipFill>
        <p:spPr>
          <a:xfrm>
            <a:off x="468360" y="6093000"/>
            <a:ext cx="84247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5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0" dur="5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5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0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31T02:42:58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